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CDC7-8BAB-4533-83EB-8E7402AED3A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http://lifewallpaperz.com/image.php?pic=/images/2015/sunlight/sunlight-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88FA-C78A-4343-B77E-BAC0E052A58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iws.collin.edu/biopage/faculty/mcculloch/1406/outlines/chapter%2010/chap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il.mahidol.ac.th/e-media/electrochemistry/web/pictures/nad.gif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sivabio.50webs.com/plastid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62C4-B10B-49B2-B966-C056A946E15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F3C4-B095-4C7A-AFE2-9C27800F74A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2622-7B09-4DBC-88AA-4350D52777F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FF5F-8E8A-450E-940E-7657F671082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artinaid.com/wp-content/uploads/2013/04/Light-absorption-in-photosynthesis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B36C-29E7-450D-A0FD-7111012B588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163.16.28.248/bio/activelearner/08/ch8c2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kensieandhuntersproject.blogspot.c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tokresource.org/tok_classes/biobiobio/biomenu/photosynthesi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9BA-8899-4B3C-9091-A4CA7399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855-1679-4265-8CA2-EE3C9D82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470-2B8E-4EE3-B84D-0588623B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F54-B62B-4522-B226-705400A5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BFC-7744-4DCE-8BAF-A6374F4E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330-38FE-44CC-BA6E-A2A035E8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49A-1B7D-4A40-ADE6-A7983F1D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C47-892D-4AEA-AD38-8F0CCBF4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708-0F07-409A-9405-683219E5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D59-9B87-4E32-9B55-05BCE99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5F5-2AA9-4A01-B371-53072AA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D86-CC5D-4C6C-B861-E4DA0503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FB5F-FC6C-4F64-A5C5-CB27514F3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khanacademy.org/science/biology/photosynthesis/v/photosynthesis-light-reactions-and-photophosphorylation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cell.ndsu.edu/animations/photosynthesis/movie-flash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0-1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khanacademy.org/science/biology/photosynthesis/v/photosynthesis-light-reactions-and-photo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nad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las015"/>
          <p:cNvPicPr/>
          <p:nvPr/>
        </p:nvPicPr>
        <p:blipFill>
          <a:blip r:embed="rId1"/>
          <a:stretch/>
        </p:blipFill>
        <p:spPr>
          <a:xfrm>
            <a:off x="1104840" y="1371600"/>
            <a:ext cx="6932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rtual cell mov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Electron Transport Chain in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self-quiz…try it!  (I can’t download the animation but maybe you ca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looking to test yourself…do a search for “light-dependent reactions quiz” &amp; see what you fi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ation of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hotosystem II (chlorophyll P680), which is transferred to primary electron ac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(non-cyclic)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 (ATP sy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3" descr="Light-absorption-in-photosynthesis.png"/>
          <p:cNvPicPr/>
          <p:nvPr/>
        </p:nvPicPr>
        <p:blipFill>
          <a:blip r:embed="rId1"/>
          <a:srcRect l="1546" t="0" r="154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h08c2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u4fg44"/>
          <p:cNvPicPr/>
          <p:nvPr/>
        </p:nvPicPr>
        <p:blipFill>
          <a:blip r:embed="rId1"/>
          <a:stretch/>
        </p:blipFill>
        <p:spPr>
          <a:xfrm>
            <a:off x="457200" y="446040"/>
            <a:ext cx="83059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07_08aPhotosElectronFlow_L"/>
          <p:cNvPicPr/>
          <p:nvPr/>
        </p:nvPicPr>
        <p:blipFill>
          <a:blip r:embed="rId1"/>
          <a:stretch/>
        </p:blipFill>
        <p:spPr>
          <a:xfrm>
            <a:off x="457200" y="1382760"/>
            <a:ext cx="8229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5-10-23T18:37:26Z</dcterms:modified>
  <cp:revision>119</cp:revision>
  <dc:subject/>
  <dc:title>Slide 1</dc:title>
</cp:coreProperties>
</file>